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7847B-D856-4FF0-9CBE-054D89B02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78C9E-4139-4C61-8E49-82A5FF011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15129-71E3-4388-B6F1-22F85AFF1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78535-2B1B-4A62-81ED-179B36096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25612-434B-47D3-A50C-83F9BAF56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D76E5-2F48-455F-8E77-F2CAA9224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476DE-E895-4CC8-AD29-1CC5B94D1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C70D2-9D45-4A79-92ED-CBCC8FF4E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BD840-D91A-42AA-9661-9AC67D688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2C9F7-69F4-48CE-8676-9E3810280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AC034-ED59-4CE6-9CE5-281F5F49D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C43D0-0DB1-4F1B-8AC4-9ABFE8CE5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8EA35-E892-438E-9568-B3D3B1D517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Diagram 3" descr=""/>
          <p:cNvPicPr/>
          <p:nvPr/>
        </p:nvPicPr>
        <p:blipFill>
          <a:blip r:embed="rId1"/>
          <a:stretch/>
        </p:blipFill>
        <p:spPr>
          <a:xfrm>
            <a:off x="0" y="963720"/>
            <a:ext cx="9144000" cy="5894280"/>
          </a:xfrm>
          <a:prstGeom prst="rect">
            <a:avLst/>
          </a:prstGeom>
          <a:ln w="0">
            <a:noFill/>
          </a:ln>
        </p:spPr>
      </p:pic>
      <p:sp>
        <p:nvSpPr>
          <p:cNvPr id="42" name="Rectangle 1"/>
          <p:cNvSpPr/>
          <p:nvPr/>
        </p:nvSpPr>
        <p:spPr>
          <a:xfrm>
            <a:off x="457200" y="308160"/>
            <a:ext cx="8686800" cy="8233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Teaching Approach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43" name="TextBox 7"/>
          <p:cNvSpPr/>
          <p:nvPr/>
        </p:nvSpPr>
        <p:spPr>
          <a:xfrm>
            <a:off x="4648320" y="457200"/>
            <a:ext cx="411480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Teaching is a part of the general and special education collaboration to increase students with disabilities access to general education curriculum through joint accountability and ownership for planning and delivering instruction and assessment of students with disabilities.</a:t>
            </a:r>
            <a:endParaRPr b="0" lang="en-US" sz="1100" spc="-1" strike="noStrike">
              <a:solidFill>
                <a:srgbClr val="000000"/>
              </a:solidFill>
              <a:latin typeface="Arial"/>
            </a:endParaRPr>
          </a:p>
        </p:txBody>
      </p:sp>
      <p:sp>
        <p:nvSpPr>
          <p:cNvPr id="44" name="TextBox 9"/>
          <p:cNvSpPr/>
          <p:nvPr/>
        </p:nvSpPr>
        <p:spPr>
          <a:xfrm>
            <a:off x="4648320" y="6019920"/>
            <a:ext cx="42670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This working copy (February 2009) was developed and produced by the Maryland State Department of Education, Division of Special Education/Early Intervention Services with funds from the [U.S. Department of Education, Grant # H323A07000-09].   </a:t>
            </a:r>
            <a:endParaRPr b="0" lang="en-US" sz="800" spc="-1" strike="noStrike">
              <a:solidFill>
                <a:srgbClr val="000000"/>
              </a:solidFill>
              <a:latin typeface="Arial"/>
            </a:endParaRPr>
          </a:p>
        </p:txBody>
      </p:sp>
      <p:sp>
        <p:nvSpPr>
          <p:cNvPr id="45" name="Rectangle 4"/>
          <p:cNvSpPr/>
          <p:nvPr/>
        </p:nvSpPr>
        <p:spPr>
          <a:xfrm>
            <a:off x="4724280" y="5522400"/>
            <a:ext cx="4038840" cy="4118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dapted from Friend, Marilyn (2008). Co-Teach! A Handbook for Creating and Sustaining Effective Classroom Partnerships in Inclusive Schools Greensboro, NC: Marilyn Friend, Inc. </a:t>
            </a:r>
            <a:r>
              <a:rPr b="0" i="1" lang="en-US" sz="900" spc="-1" strike="noStrike">
                <a:solidFill>
                  <a:srgbClr val="000000"/>
                </a:solidFill>
                <a:latin typeface="Times New Roman"/>
              </a:rPr>
              <a:t> </a:t>
            </a:r>
            <a:endParaRPr b="0" lang="en-US" sz="900" spc="-1" strike="noStrike">
              <a:solidFill>
                <a:srgbClr val="000000"/>
              </a:solidFill>
              <a:latin typeface="Arial"/>
            </a:endParaRPr>
          </a:p>
        </p:txBody>
      </p:sp>
      <p:pic>
        <p:nvPicPr>
          <p:cNvPr id="46" name="Picture 6" descr="C:\Documents and Settings\pdunford\Local Settings\Temporary Internet Files\Content.IE5\Y8XF3PRI\MCj04395870000[1].png"/>
          <p:cNvPicPr/>
          <p:nvPr/>
        </p:nvPicPr>
        <p:blipFill>
          <a:blip r:embed="rId2"/>
          <a:stretch/>
        </p:blipFill>
        <p:spPr>
          <a:xfrm>
            <a:off x="3429000" y="228600"/>
            <a:ext cx="938160" cy="74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14:43:03Z</dcterms:created>
  <dc:creator>pdunford</dc:creator>
  <dc:description/>
  <dc:language>en-US</dc:language>
  <cp:lastModifiedBy>Journell-Hoch,Cindy D</cp:lastModifiedBy>
  <dcterms:modified xsi:type="dcterms:W3CDTF">2011-11-02T14:49:29Z</dcterms:modified>
  <cp:revision>8</cp:revision>
  <dc:subject/>
  <dc:title>Slide 1</dc:title>
</cp:coreProperties>
</file>